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D5F6-2974-4D57-BBE4-ADF4FBB375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BA03-4FC7-45C0-8B10-EF83ABFF4B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quick intro of your 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655000" y="4002120"/>
            <a:ext cx="383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5320" y="5116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dd MMMM yyy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6:39Z</dcterms:modified>
  <cp:revision>68</cp:revision>
  <dc:subject/>
  <dc:title>Slide 1</dc:title>
</cp:coreProperties>
</file>